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jpeg" ContentType="image/jpeg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14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0AB-37DC-4928-B21E-FB466BD2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D4C4-2CE3-447E-BA4C-C6EBB2A3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FA2C9-8AB8-4AE3-ACFE-B26D2D95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9D732-A2FF-43AA-B227-882673EF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8482D-3D5A-4BE6-8EEA-F2E5569B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94FA4-BF03-4825-A85B-23AD5052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70F64-FCCE-49BA-8E03-71B9BA06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317BF-7090-45AD-9052-35278C16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FF95C-1DBD-42F7-B854-898291C5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73DBE-ACBA-47C9-BFBA-5D1F401A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513F8-83F3-4B6A-B6A5-98597B00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514A3-C83B-4336-A334-4423B4DF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5112-59C9-4CA7-A973-58D382D0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A398D-56FA-4B14-92E6-5D9D47DA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633AA-DC14-41BD-9422-ABC947A8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5EF83-D91C-4523-AA92-AC2EB29B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AC7DA-3280-44F5-8C2E-23B168BC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E1AE1-3F86-45D1-AC75-E731A336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BE820-DF61-4A07-A407-9EB6865A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2EDD5-8AA7-4AC0-A4F1-303281DC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E05CF-17AF-4B8E-B10B-C66390F0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029DA-4301-43F5-9C13-284E5691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19B2A-96DA-4C73-A58C-BB51277F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F06-5D83-40D9-AA1A-1DDDC4BB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D88EA-EEA0-4DA7-8794-E1EB2DAD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AF344-D97F-4D06-AA36-18A6BDE4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3404E-8E08-48A6-9A46-E0EA0455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D4333-9884-4178-A068-995969BB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4D858-EF49-4E49-A38F-A64633E9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AD929-5557-4D4F-8E5C-2B22B148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367BE-B2DF-40C2-B214-F25190F7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0CC0E-F9C9-4626-834F-E17CEC10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A85EB-C48F-4B64-BD90-E9832C3C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D89C8-7650-4B6A-9325-94A6A18A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9E0F-DB1F-404A-A058-C0DCAFCB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4C2FB-D499-4EE0-84DD-585EA847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EC5D1-2C72-4BF6-ABF0-877EFD57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8F157-5959-4CF7-B4BB-2BA93CE3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989C0-AE63-4655-9553-690E79EB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25140-3A15-445B-84E0-51CB9F6C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9CB4C-3027-4A72-A712-AE64442A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94C69-63BA-4950-ACAC-E954224D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511EB-29B9-4F98-8344-D938A671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C0E3C-EA99-45F7-81FA-314072E6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6E7A5-5426-4117-9992-B7083EEE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F50B-28B1-4B9D-A988-F161A061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69C17-8FCE-49C4-B502-7554165C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965DD-077A-4D78-8ABF-0DF9E5B6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089DB-6DA5-4D1A-9DF8-452AA69E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FAA3B-596D-4188-A503-260FCFB7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A7625-FE7E-44FB-B4CA-3FB8F374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825B1D-2132-4A2F-A030-266E0463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95643-3B01-4553-8622-41F19974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76FC15-CDB2-4E23-9FA4-0B5791D7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FE6F2-1412-4673-A276-77381004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0A082-1BC6-4D5B-9985-86999464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ECE6-AEA2-40B6-9A7E-41C8A35F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B997FF-83D3-4C42-A87A-0377C665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9CA938-6144-40FE-9AAE-9C064BB7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94505-D654-4F02-AC82-EBA335EA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0366EB-37CE-4966-845A-AF0FE238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5EC5BF-181C-47D3-AF80-23DBB3A5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E1DE5-24BB-4EFF-9524-F63974AF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EEB8E-AF2A-456C-AF0F-59451488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70ED8D-81A9-4091-899D-E00E27AE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BAEDC0-08E6-44CD-BDFF-791F41DE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E2670C-C2A9-4F81-B049-0AC96B56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0284-EC70-424B-87B5-4EB6DF47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0CBDB2-DB7E-4543-8686-360F5027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22A61B-FE9D-48AF-B34B-D4A8B739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CCD7FC-8928-47FA-8B33-11374C47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60A4E-EC01-464F-B25B-80FB27F1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004565-CCDE-485A-A411-5F48AC77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E13230-652E-4F49-8BC9-ECEB3E84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720925-6078-4156-94D4-060DC737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4C50CD-3713-4D99-8B9B-37D158BC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ADAC0-1A84-4D32-8F7D-F1331BDA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64D326-4523-4CB9-8312-6D531713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4562-661D-4CC4-955C-1C17AE64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CDCAC5-2BB9-4E0E-8029-6F07F330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8B4A37-82EC-413F-9541-01F96C5E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8E784B-A634-4B22-A7D7-B5A16AD0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0EFE92-B013-465B-B041-163DAA3B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957D6C-5EE3-48FE-836A-6E7F1A28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6ABF83-3744-4C89-96E2-51A3FA22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F0295-891B-4077-BF51-484B7B7F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1BED16-8519-4A08-8279-7A7EA88C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BC73ED-282A-42D1-BD5F-E35490C3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AAACA6-7EC3-4A7F-A4B1-1CC6E204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1018-4B95-4523-98A9-DC2860A4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1F5437-4016-488C-8F39-BC02A4DD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5EF6-05B6-4AB3-9465-0A43A3AB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FD7-E621-4CD3-AC98-C63AB2FE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2FB9-94B4-4113-8753-534AE94D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E281-A44E-4839-9167-642E06A4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DB0F-F151-41A1-9BF3-531D11BB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71CD-5AB5-4D1D-901B-59026F64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C4FB-CF8B-4FCC-862A-0958BF95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CA5EE-CCF7-4AD0-9CB2-896C16B4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856DA-A326-4C72-A780-79F15BD0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A82B2-96DA-465C-85D7-8A1FFB9B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8D621-3010-456F-A496-13291130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3D524-7AC9-418E-AC5C-5AAAD3D2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B6C-708A-4E44-AD70-3028ED30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04D83-9442-4925-9528-7BB38865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33C24-2906-459B-9262-5ACA0D4F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AB5A0-399C-4513-BD66-093E7A3B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9626C-76FB-44DE-B3CD-5497FC45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45081-6CAB-401F-8D50-132237A1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4C2C8-C431-411C-AF71-BD2A27CA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6D82E-7FB5-49AF-ADD5-89F468B3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10622-7C1C-42A0-8203-01A2E4B0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72A40-CE1D-4D13-9168-B0EF31FB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F7822-8886-4BB1-89BE-0A05DFFA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000-A75D-462A-8EF0-2228D751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4B4B0-FDF5-4C34-B0C6-9DA3FDFE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97786-9B57-420B-AE25-621E7EA0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721CE-BB79-43E1-B95E-9F6D05C5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46BE6-7257-43FE-B95C-92E7D285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B25A0-18E0-42BC-B445-A2BE0E33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0464E-40CD-4F71-98CF-D77E34DB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6CAD1-7D2A-4088-B09D-54AEF62C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67367-74A5-4D2A-BF42-B17380F3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F14A9-5EFA-42AC-B5A6-E4F5B6CE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9680C-F4D9-4DC7-A6CA-BC0CD21E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99C5-0F82-44A6-8072-44791949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F3B49-9677-46A6-9B7D-E857B4B5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2AF99-56D2-41AB-8B14-0BE9CE0D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A0A35-1293-4555-A777-134225E0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D3F69-091B-44D5-877D-E38E5E21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AFD44-98CE-4F3A-A42F-9459901A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28A4E-B11E-4D2F-98F6-EE8EC7B1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6F067-E6FF-4582-8DA7-830C9A10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9F5A8-B832-4D57-B2E1-31482E10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CC80D-A32E-4D13-9F99-8C82FC2B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0ADA7-FFBB-4584-9C4A-D0B28575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A11-9F3A-4E52-B8C2-A0FDB5CD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C4514-8175-4DDE-BAD1-3F4D8CE9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C3D20-36DA-49CE-8B9C-3CD1AC42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5E0DC-1AAC-4385-981F-CDD8D419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158A2-0E4D-407C-A7DF-A01162C1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89B65-D6AE-4B7D-B012-D7D3E9D6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BB87B-ADB6-40E0-8ED7-10546F4E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746AB-3F02-427E-8246-FF04F0EB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AC73C-2427-4AEA-A490-006EE3C8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2E649-E56C-47D4-8D1E-267D5FB2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8DFE7-FE2C-4536-A330-0A3DCB7D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1E4-CE25-47C0-A3EF-FFBE0C98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09F4F-9763-483D-BCCB-AB846D89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F937D-701E-49FF-92F1-31385335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2164B-16D1-4F19-BD11-79FCD535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5CA4F-3707-4950-8D06-F841CE05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1EFBC-61E9-47B8-B25E-9C664015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80B5C-0B59-4616-AC9F-ABACF7CF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51FC4-A9F3-4117-BB63-5E6E45A6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2456D-463E-4338-9CE6-72144BA4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27B0D-86B8-42FD-A295-045D49EE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1D929-9589-4210-8ACC-17B73C26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752D-7064-4D49-872E-17323216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EE359-D188-4596-8801-E36106AE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C9508-B0BE-4F8D-97F4-0925D34F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5E35F-428E-4891-A65F-078E8A04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67F7E-2F07-4B62-9FE4-2465DB4A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12CC6-2852-4599-813F-4874D233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48F34-50EE-4E72-84C7-79A639A9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59167-35F5-47C2-8445-08AA44E2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001F6-6A46-44E2-99BF-9D37DC84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A08E9-93BA-44BD-A375-E80FF8A6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38887-9D35-4574-99AD-11A90634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381-815F-4ED7-9697-7ED21DA9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3406E-A458-43A5-AA05-3466047E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83BC3-B6A7-4F49-B167-15B2EB1B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6082D-A2A0-4A45-9721-2999E111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176D4-62D9-4D68-9315-8293F793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89E0F-0C73-4E72-8F16-3E13DF1F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A754F-3F3C-4F44-8BAC-F735F6EC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85DE0-4475-49EF-853E-D886471A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33083-65AA-407A-AB05-4DB324AC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2DA67-F2E9-4A3A-88A9-E33A8B22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F5ACB-955C-4B5F-8917-4A0940FD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45194-15AD-4718-9CC7-3DC1B3942F72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15624-364B-41F3-B602-EEEBC0992C24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shortRule.png"/>
          <p:cNvPicPr/>
          <p:nvPr/>
        </p:nvPicPr>
        <p:blipFill>
          <a:blip r:embed="rId4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3BC5B-5E7D-4FC3-8CFF-EFBA3C9F89D9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E06592-2A07-4BB4-93B1-FA37A3130DF5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parAvion.png"/>
          <p:cNvPicPr/>
          <p:nvPr/>
        </p:nvPicPr>
        <p:blipFill>
          <a:blip r:embed="rId4"/>
          <a:stretch/>
        </p:blipFill>
        <p:spPr>
          <a:xfrm rot="307800">
            <a:off x="6835680" y="279000"/>
            <a:ext cx="1695600" cy="4842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shortRule.png"/>
          <p:cNvPicPr/>
          <p:nvPr/>
        </p:nvPicPr>
        <p:blipFill>
          <a:blip r:embed="rId5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436" name="Picture 10" descr="parAvion.png"/>
          <p:cNvPicPr/>
          <p:nvPr/>
        </p:nvPicPr>
        <p:blipFill>
          <a:blip r:embed="rId6"/>
          <a:stretch/>
        </p:blipFill>
        <p:spPr>
          <a:xfrm rot="20785200">
            <a:off x="2865600" y="3182400"/>
            <a:ext cx="1697040" cy="4842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E9DBA-B1A3-4039-88D2-BA200820BC66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A1106-6942-4792-B9C4-DB078273292B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AFEC4-9620-4B7A-8865-837821D5AE0F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E4127-FEDC-4E26-9E89-707E36251AC2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" descr="parAvion.png"/>
          <p:cNvPicPr/>
          <p:nvPr/>
        </p:nvPicPr>
        <p:blipFill>
          <a:blip r:embed="rId4"/>
          <a:stretch/>
        </p:blipFill>
        <p:spPr>
          <a:xfrm rot="307800">
            <a:off x="7427880" y="2619000"/>
            <a:ext cx="1581120" cy="4507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9" descr="pictureStamp-Frame.png"/>
          <p:cNvPicPr/>
          <p:nvPr/>
        </p:nvPicPr>
        <p:blipFill>
          <a:blip r:embed="rId5"/>
          <a:stretch/>
        </p:blipFill>
        <p:spPr>
          <a:xfrm rot="322200">
            <a:off x="6338880" y="604800"/>
            <a:ext cx="1611360" cy="2024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0" descr="pictureStamp-Frame.png"/>
          <p:cNvPicPr/>
          <p:nvPr/>
        </p:nvPicPr>
        <p:blipFill>
          <a:blip r:embed="rId6"/>
          <a:stretch/>
        </p:blipFill>
        <p:spPr>
          <a:xfrm rot="322200">
            <a:off x="4890960" y="985680"/>
            <a:ext cx="1611360" cy="20242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E1D37-BD75-45AC-9824-CFB4B24D1679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50852-C678-4C2E-BFC3-F3C61795274E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BC93F-A2D1-460F-BC47-02484004B522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335DD-DFE9-41C0-BDD3-80D170F8A0EA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verticalRule.png"/>
          <p:cNvPicPr/>
          <p:nvPr/>
        </p:nvPicPr>
        <p:blipFill>
          <a:blip r:embed="rId4"/>
          <a:stretch/>
        </p:blipFill>
        <p:spPr>
          <a:xfrm>
            <a:off x="6513480" y="1562040"/>
            <a:ext cx="152280" cy="3733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48602-B963-489E-AD13-7CF046A5C000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53F6B-BDF4-4E46-AB2D-AFF8329CFEDB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19112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98B92-8A1D-439A-B7B7-A87219213255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DFA51-A500-42A5-BD69-613AF185192B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5210C-C7A5-4D67-ABF3-F8B73CAB8AE1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2C38B-C731-4708-AA28-E8A8347AA445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57200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30" name="Picture 9" descr="pictureStamp-Frame.png"/>
          <p:cNvPicPr/>
          <p:nvPr/>
        </p:nvPicPr>
        <p:blipFill>
          <a:blip r:embed="rId5"/>
          <a:stretch/>
        </p:blipFill>
        <p:spPr>
          <a:xfrm rot="21366600">
            <a:off x="5138280" y="59976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pictureStamp-Frame.png"/>
          <p:cNvPicPr/>
          <p:nvPr/>
        </p:nvPicPr>
        <p:blipFill>
          <a:blip r:embed="rId6"/>
          <a:stretch/>
        </p:blipFill>
        <p:spPr>
          <a:xfrm rot="21329400">
            <a:off x="2073240" y="55548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pictureStamp-Frame.png"/>
          <p:cNvPicPr/>
          <p:nvPr/>
        </p:nvPicPr>
        <p:blipFill>
          <a:blip r:embed="rId7"/>
          <a:stretch/>
        </p:blipFill>
        <p:spPr>
          <a:xfrm rot="151200">
            <a:off x="3592440" y="936360"/>
            <a:ext cx="1609920" cy="2023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4A624-4480-4527-88F8-36773681B567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7EADE-6CC2-44A1-BEED-87A13C1DDAB7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33526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92AF3-C3C1-461B-A912-99D653C63F1F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BE09C-B764-4147-9E24-D77518C993A7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51105-3EEA-4EBE-93D9-DA777C034B38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CFE87-4BEE-47A6-8D96-D241AEFD4880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ECF74-B117-4E2D-9748-53FF0EB152C9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46C50-AB81-40BB-8746-5283B68C3A92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4E0E3-B60A-42CA-98E0-070878084F66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839A5-EA05-4F60-B334-7C759BF0CD17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348" name="Picture 8" descr="parAvion.png"/>
          <p:cNvPicPr/>
          <p:nvPr/>
        </p:nvPicPr>
        <p:blipFill>
          <a:blip r:embed="rId5"/>
          <a:stretch/>
        </p:blipFill>
        <p:spPr>
          <a:xfrm rot="307800">
            <a:off x="6797160" y="537840"/>
            <a:ext cx="1808280" cy="5173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07BC2-448B-4A07-9B1C-7BF204BF60BF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D4F05-FE54-45F4-AA59-804456DFC4A2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71320" y="763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sto MT"/>
              </a:rPr>
              <a:t>From Here to Relevance: A Web 2.0 Journey</a:t>
            </a:r>
            <a:endParaRPr b="0" lang="en-US" sz="5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571320" y="21337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GAC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sto MT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 Century Learning Fair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53" name="Picture 4" descr="flame_vessel_plutarch.jpg"/>
          <p:cNvPicPr/>
          <p:nvPr/>
        </p:nvPicPr>
        <p:blipFill>
          <a:blip r:embed="rId1"/>
          <a:stretch/>
        </p:blipFill>
        <p:spPr>
          <a:xfrm>
            <a:off x="2133720" y="3111480"/>
            <a:ext cx="464796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How to document progress?</a:t>
            </a:r>
            <a:endParaRPr b="0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80520" y="159984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Wikis with notes</a:t>
            </a:r>
            <a:endParaRPr b="0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22" name="Content Placeholder 2"/>
          <p:cNvSpPr/>
          <p:nvPr/>
        </p:nvSpPr>
        <p:spPr>
          <a:xfrm>
            <a:off x="1676520" y="2438280"/>
            <a:ext cx="7315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NING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Content Placeholder 2"/>
          <p:cNvSpPr/>
          <p:nvPr/>
        </p:nvSpPr>
        <p:spPr>
          <a:xfrm>
            <a:off x="571680" y="3200400"/>
            <a:ext cx="8420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Lesson plan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Content Placeholder 2"/>
          <p:cNvSpPr/>
          <p:nvPr/>
        </p:nvSpPr>
        <p:spPr>
          <a:xfrm>
            <a:off x="571680" y="4762440"/>
            <a:ext cx="53719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Content Placeholder 2"/>
          <p:cNvSpPr/>
          <p:nvPr/>
        </p:nvSpPr>
        <p:spPr>
          <a:xfrm>
            <a:off x="1486080" y="3924360"/>
            <a:ext cx="75056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Timeline on the 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Content Placeholder 2"/>
          <p:cNvSpPr/>
          <p:nvPr/>
        </p:nvSpPr>
        <p:spPr>
          <a:xfrm>
            <a:off x="1486080" y="548640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9" descr="j0285758"/>
          <p:cNvPicPr/>
          <p:nvPr/>
        </p:nvPicPr>
        <p:blipFill>
          <a:blip r:embed="rId1"/>
          <a:stretch/>
        </p:blipFill>
        <p:spPr>
          <a:xfrm flipH="1">
            <a:off x="7085160" y="5046840"/>
            <a:ext cx="148752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404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412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What’s our vision?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80880" y="1904760"/>
            <a:ext cx="2781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2010</a:t>
            </a:r>
            <a:endParaRPr b="0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6" name="Content Placeholder 2"/>
          <p:cNvSpPr/>
          <p:nvPr/>
        </p:nvSpPr>
        <p:spPr>
          <a:xfrm>
            <a:off x="3238560" y="1905120"/>
            <a:ext cx="5334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1 to 1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Content Placeholder 2"/>
          <p:cNvSpPr/>
          <p:nvPr/>
        </p:nvSpPr>
        <p:spPr>
          <a:xfrm>
            <a:off x="1447920" y="2895480"/>
            <a:ext cx="7124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student-center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Content Placeholder 2"/>
          <p:cNvSpPr/>
          <p:nvPr/>
        </p:nvSpPr>
        <p:spPr>
          <a:xfrm>
            <a:off x="5638680" y="3886200"/>
            <a:ext cx="3238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creativity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Content Placeholder 2"/>
          <p:cNvSpPr/>
          <p:nvPr/>
        </p:nvSpPr>
        <p:spPr>
          <a:xfrm>
            <a:off x="380880" y="3809880"/>
            <a:ext cx="3848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Content Placeholder 2"/>
          <p:cNvSpPr/>
          <p:nvPr/>
        </p:nvSpPr>
        <p:spPr>
          <a:xfrm>
            <a:off x="1981080" y="4724280"/>
            <a:ext cx="495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communicatio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Content Placeholder 2"/>
          <p:cNvSpPr/>
          <p:nvPr/>
        </p:nvSpPr>
        <p:spPr>
          <a:xfrm>
            <a:off x="3886200" y="5486400"/>
            <a:ext cx="5257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problem-solv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1" descr="j0345396"/>
          <p:cNvPicPr/>
          <p:nvPr/>
        </p:nvPicPr>
        <p:blipFill>
          <a:blip r:embed="rId1"/>
          <a:stretch/>
        </p:blipFill>
        <p:spPr>
          <a:xfrm>
            <a:off x="380880" y="5181480"/>
            <a:ext cx="1409760" cy="13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3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0"/>
                            </p:stCondLst>
                            <p:childTnLst>
                              <p:par>
                                <p:cTn id="5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040" y="317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What’s our objective?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80880" y="1599840"/>
            <a:ext cx="65534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Pedagogy change</a:t>
            </a:r>
            <a:endParaRPr b="0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5" name="Content Placeholder 2"/>
          <p:cNvSpPr/>
          <p:nvPr/>
        </p:nvSpPr>
        <p:spPr>
          <a:xfrm>
            <a:off x="3238560" y="2286000"/>
            <a:ext cx="5905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Curriculum chang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Content Placeholder 2"/>
          <p:cNvSpPr/>
          <p:nvPr/>
        </p:nvSpPr>
        <p:spPr>
          <a:xfrm>
            <a:off x="914400" y="2895480"/>
            <a:ext cx="7124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Student-centered lesson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Content Placeholder 2"/>
          <p:cNvSpPr/>
          <p:nvPr/>
        </p:nvSpPr>
        <p:spPr>
          <a:xfrm>
            <a:off x="1981080" y="4191120"/>
            <a:ext cx="3238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creativity,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Content Placeholder 2"/>
          <p:cNvSpPr/>
          <p:nvPr/>
        </p:nvSpPr>
        <p:spPr>
          <a:xfrm>
            <a:off x="1981080" y="3581280"/>
            <a:ext cx="525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with collaboration,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Content Placeholder 2"/>
          <p:cNvSpPr/>
          <p:nvPr/>
        </p:nvSpPr>
        <p:spPr>
          <a:xfrm>
            <a:off x="1981080" y="4800600"/>
            <a:ext cx="495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communicatio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Content Placeholder 2"/>
          <p:cNvSpPr/>
          <p:nvPr/>
        </p:nvSpPr>
        <p:spPr>
          <a:xfrm>
            <a:off x="1981080" y="5410080"/>
            <a:ext cx="5257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and problem-solv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4" descr="j0350105"/>
          <p:cNvPicPr/>
          <p:nvPr/>
        </p:nvPicPr>
        <p:blipFill>
          <a:blip r:embed="rId1"/>
          <a:stretch/>
        </p:blipFill>
        <p:spPr>
          <a:xfrm>
            <a:off x="334800" y="274680"/>
            <a:ext cx="115740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How to assess change?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80520" y="1599840"/>
            <a:ext cx="8191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Lesson plans/observations</a:t>
            </a:r>
            <a:endParaRPr b="0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4" name="Content Placeholder 2"/>
          <p:cNvSpPr/>
          <p:nvPr/>
        </p:nvSpPr>
        <p:spPr>
          <a:xfrm>
            <a:off x="1676520" y="2438280"/>
            <a:ext cx="7315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Teachers teaching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Content Placeholder 2"/>
          <p:cNvSpPr/>
          <p:nvPr/>
        </p:nvSpPr>
        <p:spPr>
          <a:xfrm>
            <a:off x="571680" y="3200400"/>
            <a:ext cx="8420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Collaboration between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Content Placeholder 2"/>
          <p:cNvSpPr/>
          <p:nvPr/>
        </p:nvSpPr>
        <p:spPr>
          <a:xfrm>
            <a:off x="571680" y="4762440"/>
            <a:ext cx="3238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Survey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Content Placeholder 2"/>
          <p:cNvSpPr/>
          <p:nvPr/>
        </p:nvSpPr>
        <p:spPr>
          <a:xfrm>
            <a:off x="1486080" y="3924360"/>
            <a:ext cx="75056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Conversations on the 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Content Placeholder 2"/>
          <p:cNvSpPr/>
          <p:nvPr/>
        </p:nvSpPr>
        <p:spPr>
          <a:xfrm>
            <a:off x="1486080" y="5486400"/>
            <a:ext cx="4952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Excitemen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10" descr="MCj02375390000[1]"/>
          <p:cNvPicPr/>
          <p:nvPr/>
        </p:nvPicPr>
        <p:blipFill>
          <a:blip r:embed="rId1"/>
          <a:stretch/>
        </p:blipFill>
        <p:spPr>
          <a:xfrm>
            <a:off x="6438960" y="5016600"/>
            <a:ext cx="21337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How to network?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80520" y="1599840"/>
            <a:ext cx="8191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Share through notes on wiki</a:t>
            </a:r>
            <a:endParaRPr b="0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2" name="Content Placeholder 2"/>
          <p:cNvSpPr/>
          <p:nvPr/>
        </p:nvSpPr>
        <p:spPr>
          <a:xfrm>
            <a:off x="1676520" y="2666880"/>
            <a:ext cx="7315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Teachers teaching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Content Placeholder 2"/>
          <p:cNvSpPr/>
          <p:nvPr/>
        </p:nvSpPr>
        <p:spPr>
          <a:xfrm>
            <a:off x="1486080" y="4152960"/>
            <a:ext cx="80010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Conversations with experts around the world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Content Placeholder 2"/>
          <p:cNvSpPr/>
          <p:nvPr/>
        </p:nvSpPr>
        <p:spPr>
          <a:xfrm>
            <a:off x="571680" y="3295800"/>
            <a:ext cx="75056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Conversations on the 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Content Placeholder 2"/>
          <p:cNvSpPr/>
          <p:nvPr/>
        </p:nvSpPr>
        <p:spPr>
          <a:xfrm>
            <a:off x="723960" y="5715000"/>
            <a:ext cx="735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Electricity and Excitemen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10" descr="j0250895"/>
          <p:cNvPicPr/>
          <p:nvPr/>
        </p:nvPicPr>
        <p:blipFill>
          <a:blip r:embed="rId1"/>
          <a:stretch/>
        </p:blipFill>
        <p:spPr>
          <a:xfrm>
            <a:off x="380880" y="237960"/>
            <a:ext cx="133524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What do we propose?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80520" y="1599840"/>
            <a:ext cx="8191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21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alisto MT"/>
              </a:rPr>
              <a:t>st</a:t>
            </a: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 Century Learning Fair</a:t>
            </a:r>
            <a:endParaRPr b="0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89" name="Picture 9" descr="21st Learning Fair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5486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How do we evaluate?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80520" y="1599840"/>
            <a:ext cx="8191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Lesson plans/observations</a:t>
            </a:r>
            <a:endParaRPr b="0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2" name="Content Placeholder 2"/>
          <p:cNvSpPr/>
          <p:nvPr/>
        </p:nvSpPr>
        <p:spPr>
          <a:xfrm>
            <a:off x="1676520" y="2438280"/>
            <a:ext cx="7315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Teachers teaching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Content Placeholder 2"/>
          <p:cNvSpPr/>
          <p:nvPr/>
        </p:nvSpPr>
        <p:spPr>
          <a:xfrm>
            <a:off x="571680" y="3200400"/>
            <a:ext cx="8420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Collaboration between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Content Placeholder 2"/>
          <p:cNvSpPr/>
          <p:nvPr/>
        </p:nvSpPr>
        <p:spPr>
          <a:xfrm>
            <a:off x="571680" y="4762440"/>
            <a:ext cx="3238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Survey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Content Placeholder 2"/>
          <p:cNvSpPr/>
          <p:nvPr/>
        </p:nvSpPr>
        <p:spPr>
          <a:xfrm>
            <a:off x="1486080" y="3924360"/>
            <a:ext cx="75056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Conversations on the 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Content Placeholder 2"/>
          <p:cNvSpPr/>
          <p:nvPr/>
        </p:nvSpPr>
        <p:spPr>
          <a:xfrm>
            <a:off x="1486080" y="5486400"/>
            <a:ext cx="4952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Excitemen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9" descr="MCj02375390000[1]"/>
          <p:cNvPicPr/>
          <p:nvPr/>
        </p:nvPicPr>
        <p:blipFill>
          <a:blip r:embed="rId1"/>
          <a:stretch/>
        </p:blipFill>
        <p:spPr>
          <a:xfrm>
            <a:off x="6438960" y="5016600"/>
            <a:ext cx="21337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What’s next?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80520" y="159984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Summer workshop, June 9-11</a:t>
            </a:r>
            <a:endParaRPr b="0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00" name="Content Placeholder 2"/>
          <p:cNvSpPr/>
          <p:nvPr/>
        </p:nvSpPr>
        <p:spPr>
          <a:xfrm>
            <a:off x="1676520" y="2438280"/>
            <a:ext cx="7315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Teachers teaching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Content Placeholder 2"/>
          <p:cNvSpPr/>
          <p:nvPr/>
        </p:nvSpPr>
        <p:spPr>
          <a:xfrm>
            <a:off x="571680" y="3200400"/>
            <a:ext cx="8420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Collaboration between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Content Placeholder 2"/>
          <p:cNvSpPr/>
          <p:nvPr/>
        </p:nvSpPr>
        <p:spPr>
          <a:xfrm>
            <a:off x="571680" y="4762440"/>
            <a:ext cx="53719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Student laptop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Content Placeholder 2"/>
          <p:cNvSpPr/>
          <p:nvPr/>
        </p:nvSpPr>
        <p:spPr>
          <a:xfrm>
            <a:off x="1486080" y="3924360"/>
            <a:ext cx="75056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Teacher lapt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Content Placeholder 2"/>
          <p:cNvSpPr/>
          <p:nvPr/>
        </p:nvSpPr>
        <p:spPr>
          <a:xfrm>
            <a:off x="1486080" y="548640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Excitement all around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12" descr="j0285758"/>
          <p:cNvPicPr/>
          <p:nvPr/>
        </p:nvPicPr>
        <p:blipFill>
          <a:blip r:embed="rId1"/>
          <a:stretch/>
        </p:blipFill>
        <p:spPr>
          <a:xfrm>
            <a:off x="990720" y="322200"/>
            <a:ext cx="136980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3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Timeline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07" name="Line 4"/>
          <p:cNvSpPr/>
          <p:nvPr/>
        </p:nvSpPr>
        <p:spPr>
          <a:xfrm>
            <a:off x="571680" y="358128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"/>
          <p:cNvSpPr/>
          <p:nvPr/>
        </p:nvSpPr>
        <p:spPr>
          <a:xfrm>
            <a:off x="876240" y="2575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6"/>
          <p:cNvSpPr/>
          <p:nvPr/>
        </p:nvSpPr>
        <p:spPr>
          <a:xfrm>
            <a:off x="1181160" y="3809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teachers to t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7"/>
          <p:cNvSpPr/>
          <p:nvPr/>
        </p:nvSpPr>
        <p:spPr>
          <a:xfrm>
            <a:off x="2133720" y="25750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keynote speaker, David War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8"/>
          <p:cNvSpPr/>
          <p:nvPr/>
        </p:nvSpPr>
        <p:spPr>
          <a:xfrm>
            <a:off x="2666880" y="38098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 F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9"/>
          <p:cNvSpPr/>
          <p:nvPr/>
        </p:nvSpPr>
        <p:spPr>
          <a:xfrm>
            <a:off x="76320" y="32162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0"/>
          <p:cNvSpPr/>
          <p:nvPr/>
        </p:nvSpPr>
        <p:spPr>
          <a:xfrm>
            <a:off x="7581960" y="31845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1"/>
          <p:cNvSpPr/>
          <p:nvPr/>
        </p:nvSpPr>
        <p:spPr>
          <a:xfrm>
            <a:off x="3886200" y="2575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workshop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2"/>
          <p:cNvSpPr/>
          <p:nvPr/>
        </p:nvSpPr>
        <p:spPr>
          <a:xfrm>
            <a:off x="5029200" y="3809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6515280" y="3809880"/>
            <a:ext cx="140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? – respond to th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5867280" y="2575080"/>
            <a:ext cx="18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eachers with lapt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5"/>
          <p:cNvSpPr/>
          <p:nvPr/>
        </p:nvSpPr>
        <p:spPr>
          <a:xfrm>
            <a:off x="7886880" y="2209680"/>
            <a:ext cx="125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ith lapt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19" descr="j0234635"/>
          <p:cNvPicPr/>
          <p:nvPr/>
        </p:nvPicPr>
        <p:blipFill>
          <a:blip r:embed="rId1"/>
          <a:stretch/>
        </p:blipFill>
        <p:spPr>
          <a:xfrm>
            <a:off x="1181160" y="274680"/>
            <a:ext cx="138744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7:01:23Z</dcterms:created>
  <dc:creator>Julia Osteen</dc:creator>
  <dc:description/>
  <dc:language>en-US</dc:language>
  <cp:lastModifiedBy>juliaos</cp:lastModifiedBy>
  <dcterms:modified xsi:type="dcterms:W3CDTF">2009-03-19T12:31:11Z</dcterms:modified>
  <cp:revision>11</cp:revision>
  <dc:subject/>
  <dc:title>From Here to Relevance: A Web 2.0 Journey</dc:title>
</cp:coreProperties>
</file>